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2288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716-609F-40BA-8E6E-2A361183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B6A-3CF3-4E3C-A381-312D7A34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0C7-FA88-40EF-B0DB-81766144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834-AACC-4979-97A2-7EC6868D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8C40-4E24-40D7-9BDC-6FCFBF19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C745-68C0-4CC1-8DA4-A6E92B62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78A-E8CE-47DA-B073-9BDC3C0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4D45-344E-4A3D-B554-1E85C829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0F4B-7768-42C4-B387-25805145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0E9B-EF96-48AF-80D2-23877094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74AB-06EE-4535-A5F5-5CBB3ABC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6E8-9438-4BC6-915D-9D85DEB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083D-D779-4D4B-8480-5B3B26CC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4EA3-47B1-46F7-A16A-A44F90F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8944-71FE-4BFA-8378-6AA95BF6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C1C2-BC0D-4342-8CB2-391D666A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1F5B-FB96-4A1C-A14E-D56ED644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54F-5E2D-483E-80FB-FA28A425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1B7-28C4-4E59-8B83-024A4CA8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D8C-8BB9-4B8C-AF33-5FFBB2BD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771-73AD-4B23-AA4B-4F40BE35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E4F-F56F-4364-A6B0-62FC5A4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A50-137A-4A4E-A3BC-7AF679FD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762-1A52-4861-B7B0-301B550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ABF-7375-4949-8025-6FF4D4D42B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78C3-1BDC-4D22-9FF3-AB64FB0B35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510920"/>
            <a:ext cx="7632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грамма по профилактике наркоман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Уберечь от дурман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, никотин, наркотики. Извечные и коварнейшие враги человечества. Значительная его часть находится в рабстве у этих веществ, недаром называемых дурманом, зельем, отравой. И число  плененных ими – по статистическим данным, не уменьша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грамма должна способствовать формированию ответственности за свое собственное здоровье. Информационные, просветительные и воспитательные меры должны осуществляться в комплексе с профилактически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8706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программ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: формирование здоровых установок и навыков ответственного поведения, снижающих вероятность приобщения к употреблению наркотиков, табака, алкоголя и других психоактивных веществ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дачи программы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оставить учащимся объективную, соответствующую возрасту информацию о наркотиках, табаке и алкогол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ь детей лучше понимать самих себя и критически относиться к собственному поведению, способствовать к стремлению детей понять окружающих и анализировать свое отношение к ни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ь детей делать здоровый выбор и принимать ответственное реш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03280" y="2133720"/>
            <a:ext cx="6688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убная деятель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4508280"/>
            <a:ext cx="6870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 помощью которой происходит реализация программы ЗОЖ «Уберечь от дурман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формировании клуба необходимо учесть правила клуб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нимательно слушай говорящег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критикуй говорящего, чтобы он ни сказа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не хочешь говорить, можешь промолчат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носись к другим так, как ты хочешь, чтобы другие относились к т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создания клуб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ор учащихся 8 класс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актива клуб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названия, девиза клуб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знакомление с планом мероприятий деятельности клуб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6:31:21Z</dcterms:created>
  <dc:creator>Цырма Михайловна</dc:creator>
  <dc:description/>
  <dc:language>en-US</dc:language>
  <cp:lastModifiedBy>Цырма Михайловна</cp:lastModifiedBy>
  <dcterms:modified xsi:type="dcterms:W3CDTF">2010-11-30T15:21:02Z</dcterms:modified>
  <cp:revision>3</cp:revision>
  <dc:subject/>
  <dc:title>Программа ЗОЖ</dc:title>
</cp:coreProperties>
</file>